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0B83-9E49-4B3B-8AD7-67249970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5946-7308-47E8-ABDE-F88A0738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0DA9-6563-4930-BEDB-D9FBDBBD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A96-CB1C-43FC-899F-EB1BECBF3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99E7-A36D-4997-B631-C766EC9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F5B-45EA-47C8-A07E-4BA899BC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480-76DD-40DD-A8D4-64FE8ADB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094-F0B4-4B17-9D8D-0AEFFD6C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7279-D585-413F-9DC3-007467CB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0A0-8277-4B79-B9ED-A4A044A1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F51-6518-48E2-8891-7EAABC7F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909-CAA2-47FD-AF12-84052509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05E1-F1A6-4069-BE74-4EC61E67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terary dev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Jay, Liz and S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78000" y="812880"/>
            <a:ext cx="55976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If you wrote a poem about this fish, what words would you use to describe it?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35240" y="2743200"/>
            <a:ext cx="5699160" cy="35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867800" y="6197760"/>
            <a:ext cx="1693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0720" y="411120"/>
            <a:ext cx="7809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In the poem "The Fish" by Elizabeth Bishop, the author uses literary devices such as metaphor, simile, and personification to describe her feelings when she caught a fish.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5880" y="4775040"/>
            <a:ext cx="3441960" cy="2362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360" y="2743200"/>
            <a:ext cx="6002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His brown skin hung in strips like ancient wallpaper.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Shapes like full blown roses stained and lost through ag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85960" y="6299280"/>
            <a:ext cx="239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65120" y="517680"/>
            <a:ext cx="51958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mic Sans MS"/>
              </a:rPr>
              <a:t>What is an extended metaphor?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4720" y="2944800"/>
            <a:ext cx="3378240" cy="257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95880" y="1320840"/>
            <a:ext cx="2824200" cy="2509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14760" y="4162320"/>
            <a:ext cx="5203800" cy="20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's a metaphor that continues into the context that follows. It is often developed at great length, occurring frequently in or throughout a work, and is effective in poems and short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68520" y="5892840"/>
            <a:ext cx="15937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309600"/>
            <a:ext cx="9218520" cy="24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Extended metaphor: All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egory is a figurative method of representation conveying meaning other than the liter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Can you think of an allegoric story?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689440" y="3657600"/>
            <a:ext cx="2400480" cy="3378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117440" y="3962520"/>
            <a:ext cx="3124440" cy="191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381400" y="6299280"/>
            <a:ext cx="16938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Liz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What are  literary devices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0720" y="1320480"/>
            <a:ext cx="8691840" cy="574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>
                <a:solidFill>
                  <a:srgbClr val="ffffff"/>
                </a:solidFill>
                <a:latin typeface="'Comic Sans MS'"/>
              </a:rPr>
              <a:t>Literary devices: “Tools” that make writing more beautiful, meaningful, and enjoyable to rea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>
                <a:solidFill>
                  <a:srgbClr val="ffffff"/>
                </a:solidFill>
                <a:latin typeface="'Comic Sans MS'"/>
              </a:rPr>
              <a:t>Metaphors, similes, and personification are the three most common literary devic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9075240" y="7303680"/>
            <a:ext cx="862200" cy="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45080" y="6603840"/>
            <a:ext cx="358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14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Metaphor and Simi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320" y="1218960"/>
            <a:ext cx="457524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n-US" sz="3200" spc="-1" strike="noStrike">
                <a:solidFill>
                  <a:srgbClr val="ffffff"/>
                </a:solidFill>
                <a:latin typeface="'Comic Sans MS'"/>
              </a:rPr>
              <a:t>use a tangible thing to describe something abs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Metaphors say that</a:t>
            </a:r>
            <a:r>
              <a:rPr b="0" lang="en-US" sz="2400" spc="-1" strike="noStrike">
                <a:solidFill>
                  <a:srgbClr val="000000"/>
                </a:solidFill>
                <a:latin typeface="'Comic Sans MS'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one thing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 another thing. For example:  No man is an island.</a:t>
            </a:r>
            <a:r>
              <a:rPr b="0" lang="en-US" sz="2400" spc="-1" strike="noStrike">
                <a:solidFill>
                  <a:srgbClr val="000000"/>
                </a:solidFill>
                <a:latin typeface="'Comic Sans MS'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Similes make an an explicit comparison using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like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 or </a:t>
            </a:r>
            <a:r>
              <a:rPr b="0" i="1" lang="en-US" sz="2400" spc="-1" strike="noStrike">
                <a:solidFill>
                  <a:srgbClr val="ffffff"/>
                </a:solidFill>
                <a:latin typeface="'Comic Sans MS'"/>
              </a:rPr>
              <a:t>as.</a:t>
            </a:r>
            <a:r>
              <a:rPr b="0" lang="en-US" sz="2400" spc="-1" strike="noStrike">
                <a:solidFill>
                  <a:srgbClr val="ffffff"/>
                </a:solidFill>
                <a:latin typeface="'Comic Sans MS'"/>
              </a:rPr>
              <a:t> Ex:  Reality will hit him like a ton of brick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278640" y="7318080"/>
            <a:ext cx="662040" cy="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3960" bIns="-3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481800" y="1185840"/>
            <a:ext cx="3314520" cy="3476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978440" y="3454560"/>
            <a:ext cx="3038400" cy="3801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054920" y="6502320"/>
            <a:ext cx="27655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507600"/>
            <a:ext cx="91648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Personifi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3500" spc="-1" strike="noStrike" u="sng">
                <a:solidFill>
                  <a:srgbClr val="ccccff"/>
                </a:solidFill>
                <a:uFillTx/>
                <a:latin typeface="Arial"/>
              </a:rPr>
              <a:t>song clip: That Lucky Old Su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7920" y="1836720"/>
            <a:ext cx="4593960" cy="54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Giving human characteristics to inanimate thing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Used to create attachment between reader and thing, point our irony, cast blame, and other connections people have with each oth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Ex: Ray Charles’ song “That Lucky Old Sun”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440" y="6684840"/>
            <a:ext cx="331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560"/>
            <a:ext cx="966456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Using Literary Device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5800" y="1117080"/>
            <a:ext cx="4592520" cy="654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Writing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Use to enhance reader’s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Makes a story, poem or song more enjoyable to read or listen t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Helps the reader expand his current ways of thinking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Did you ever think to be envious of the sun, as Ray Charles is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4400" y="1363320"/>
            <a:ext cx="4576680" cy="784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Speech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Often make people more confu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2700" spc="-1" strike="noStrike">
                <a:solidFill>
                  <a:srgbClr val="ffffff"/>
                </a:solidFill>
                <a:latin typeface="'Comic Sans MS'"/>
              </a:rPr>
              <a:t>Phrases we don’t give a second thought to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take a walk” (comparing the act of walking to. . . a pill? A gift?) </a:t>
            </a:r>
            <a:r>
              <a:rPr b="1" i="1" lang="en-US" sz="2100" spc="-1" strike="noStrike">
                <a:solidFill>
                  <a:srgbClr val="ffffff"/>
                </a:solidFill>
                <a:latin typeface="'Comic Sans MS'"/>
              </a:rPr>
              <a:t>How do you describe the act of walking in Spanish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“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the new paint is growing on me” (can paint grow? And is it actually </a:t>
            </a:r>
            <a:r>
              <a:rPr b="0" i="1" lang="en-US" sz="2100" spc="-1" strike="noStrike">
                <a:solidFill>
                  <a:srgbClr val="ffffff"/>
                </a:solidFill>
                <a:latin typeface="'Comic Sans MS'"/>
              </a:rPr>
              <a:t>growing on </a:t>
            </a:r>
            <a:r>
              <a:rPr b="0" lang="en-US" sz="2100" spc="-1" strike="noStrike">
                <a:solidFill>
                  <a:srgbClr val="ffffff"/>
                </a:solidFill>
                <a:latin typeface="'Comic Sans MS'"/>
              </a:rPr>
              <a:t>you?)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3400" y="6999120"/>
            <a:ext cx="2773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. Pannabeck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0160" y="2336760"/>
            <a:ext cx="5014800" cy="496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3520" y="406440"/>
            <a:ext cx="89247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"What are you looking at?"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 different words describing the pictur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75760" y="6400800"/>
            <a:ext cx="595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6705360"/>
            <a:ext cx="9664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40160" y="2336760"/>
            <a:ext cx="5014800" cy="4962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03200"/>
            <a:ext cx="885348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What if I asked,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i="1" lang="en-US" sz="3700" spc="-1" strike="noStrike" u="sng">
                <a:solidFill>
                  <a:srgbClr val="ffffff"/>
                </a:solidFill>
                <a:uFillTx/>
                <a:latin typeface="Comic Sans MS"/>
              </a:rPr>
              <a:t>Who</a:t>
            </a:r>
            <a:r>
              <a:rPr b="0" lang="en-US" sz="3700" spc="-1" strike="noStrike">
                <a:solidFill>
                  <a:srgbClr val="ffffff"/>
                </a:solidFill>
                <a:latin typeface="Comic Sans MS"/>
              </a:rPr>
              <a:t> are you looking at?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rite down 3 new words describing the picture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63080" y="6491160"/>
            <a:ext cx="1569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108320" y="4572000"/>
            <a:ext cx="492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 is personification used to enrich langu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" y="289080"/>
            <a:ext cx="942804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 u="sng">
                <a:solidFill>
                  <a:srgbClr val="00ff00"/>
                </a:solidFill>
                <a:uFillTx/>
                <a:latin typeface="Comic Sans MS"/>
              </a:rPr>
              <a:t>Personification</a:t>
            </a:r>
            <a:r>
              <a:rPr b="1" i="1" lang="en-US" sz="3500" spc="-1" strike="noStrike">
                <a:solidFill>
                  <a:srgbClr val="ffffff"/>
                </a:solidFill>
                <a:latin typeface="Comic Sans MS"/>
              </a:rPr>
              <a:t> is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 act of giving inanimate objects or abstract notions 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human qualiti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4120" y="2844720"/>
            <a:ext cx="47163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 example: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Mother Eart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</a:t>
            </a:r>
            <a:r>
              <a:rPr b="0" lang="en-US" sz="2700" spc="-1" strike="noStrike">
                <a:solidFill>
                  <a:srgbClr val="00ffff"/>
                </a:solidFill>
                <a:latin typeface="Comic Sans MS"/>
              </a:rPr>
              <a:t>Father Ti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0600" y="6486480"/>
            <a:ext cx="21621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33720" y="711360"/>
            <a:ext cx="5370480" cy="5902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2600" y="6603840"/>
            <a:ext cx="901224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Comic Sans MS"/>
              </a:rPr>
              <a:t>http://www.youtube.com/watch?v=1TZCP6OqR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61160" y="4975200"/>
            <a:ext cx="16178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-J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